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38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8EB449-AE63-430F-81E5-530F48EFDD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uno quisiera resumir en pocas frases la esencia del modelo que estamos planteando, serían estos 3 concep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e último es clave respecto de los requerimientos de fondos públicos. El Modelo que estamos plantenado es uno de securitización de los créditos otorgados a los jóvenes para recoger recursos del Mercado de Capitales. En régimen, este sistema debiera autosustentarse y no presionar al gasto fiscal como el sistema del Fondo Solidario. Se requiere un tiempo de maduración que es difícil de predecir, pues dependerá del mercado, pero por lo menos, unos 6 a 8 años, de capitalización por una parte y de consolidación en el mercado financiero, hasta convertirse en una real opción de inversiones a tasas razonables y con porcentajes de sobrecolateralización mínimos.Esquema parecido al de los recursos para préstamos hipoteca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A15-14CC-4C48-B954-9234620C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2A5-5F76-4FF9-B154-E254138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D98-A894-467A-B2D4-D035B3C2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684-9EA3-4678-BF55-7CAD5539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1F9-B45A-451F-A67E-EDB59877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9377-8FE2-4479-8F40-45E9CABE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BD38-5407-483B-BAF0-54EE820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B503-F3AF-4FE6-AB58-C0F207B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F1BF-9EB5-4216-BCE0-90F40052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93FF-9C2B-49CD-9431-6658B8C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3260-AE5B-45CA-9C6B-E6EF6C3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C59-06EE-4222-AB03-2FB1BB7C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FF34-E7E8-45EF-BA41-DF00CC4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9571-9540-4AA8-AB29-F195946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E9B-7DD2-413E-9F27-0178BA9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2A1-EA90-4FFB-A8CD-C5A84A33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3D8-CB0B-4A3D-8B8C-321F7BF2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407-7BC3-437C-BDCE-71AC564E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A6B-C0E1-4444-9688-E311490D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AC1-823D-43D7-8F17-78E0923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42E-B50E-466D-BE1D-60095C1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873-BABC-4897-AD12-70B50CA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26C-CE64-44D5-B4C6-2B97483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A2C-2FB9-4514-8CCA-40AB184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889-5500-42A8-B3C2-F2589FB43F6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15A6-2656-41C6-8529-A41EF5BEFF3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90512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programación de Crédito Solid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solidaridad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3886200" cy="3062160"/>
          </a:xfrm>
          <a:prstGeom prst="rect">
            <a:avLst/>
          </a:prstGeom>
          <a:ln w="0">
            <a:noFill/>
          </a:ln>
        </p:spPr>
      </p:pic>
      <p:pic>
        <p:nvPicPr>
          <p:cNvPr id="100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5440" y="304560"/>
            <a:ext cx="7648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Fundamentos del Proyect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recuperación en la actualidad alcanza a la cifra de 25.000 millones de pe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asa  promedio de recuperación del sistema bordea el 5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sistema de crédito se basa en el principio de la solidaridad intergenerac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1.000 millones de pesos equivalen aproximadamente a 1.000 crédi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ley vigente establece sanciones que impiden a los profesionales en mora una regularización de su créd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Objetivos del Proyec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Aumentar recuperación de créditos moro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Mantener el principio de la contingencia al ingreso: en ningún caso se paga más del 5% de la remune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r mecanismos más eficientes para el proceso de cobro de las deu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Contenido del Proyect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Programa  de reprogramación aplicable a deudores morosos al 31 de diciembre de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No considera condonación de inter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 un nuevo plazo de 10 años para el pa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Se establece una cuota fija, sujeta a la contingencia del 5% de los ingresos de cada deud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joven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4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gu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Incorpora mecanismos más eficientes para el cobro de las deu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Retención de la devolución de impuestos por la Tesorería General de la República para los profesionales que trabajan en forma independ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Descuento automático de las remuneraciones del deudor para los profesionales 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joven1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294984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628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080" y="2209680"/>
            <a:ext cx="85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Financiamiento de Estudios Superi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instituciones autóno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acreditad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Verdana"/>
              </a:rPr>
              <a:t>Acceso al Crédito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81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poyo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jóvenes y sus pad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o terceros para seguir estudios de educación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Beneficia directamente a la clase media y sectores más modestos de la población que teniendo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éritos académic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no cuentan con recursos para estud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 un esfuerzo entre el Estado y las instituciones de educación superior de los tres niveles: Universidades, Institutos Profesionales y Centros de Formación Téc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nciamiento mixto: Estado financia la formación de un fondo de créditos que años después, se invierten en el mercado de capitales para realimentar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9280" y="-3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Características de los créditos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creará una institucionalidad mixta que permita entregar créditos a estudiantes o sus pad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esta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as casas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os propios beneficiarios (compromisos de pag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n a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éditos de largo plazo que se empiezan a pagar un año después del egr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arán con seguro cesantía, invalidez y desgrava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opes de crédito por año via Arancel de Referencia y límites al número de años que pueden endeuda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Los Planes de Ahorro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Objetivo: apoyar 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estudiante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y famili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qu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horren para financiar el primer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ñ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premiándolos con igual tasa de interés o más, con un tope de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10 mil pesos (50 UF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xige: Ahorr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durante un mínimo de dos añ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al men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30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mil pesos (80 UF) para estudios universitarios o profesional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650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 pesos (40 UF) para estudios técnicos de nivel superi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Premi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150% de la tasa de interés real para famili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c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ingresos inferiores 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de pes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63 UF) 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00% de la tasa de interés real par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familias co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ingresos entr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y 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500 mil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pesos (entre 63 y 93 U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jemplo: si la tasa de interés fue en promedio 5%, el primer tramo obtendrá por esos fondos ahorrados un 12.5% de interés y el segundo tramo un 10% de inter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9:25:02Z</dcterms:created>
  <dc:creator>MINEDUC </dc:creator>
  <dc:description/>
  <dc:language>en-US</dc:language>
  <cp:lastModifiedBy>CEI</cp:lastModifiedBy>
  <dcterms:modified xsi:type="dcterms:W3CDTF">2002-05-31T01:09:06Z</dcterms:modified>
  <cp:revision>27</cp:revision>
  <dc:subject/>
  <dc:title>Reforma de la Educación Superior</dc:title>
</cp:coreProperties>
</file>