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386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400B4B-B21F-4D4B-B88F-2B07E45EC8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Si uno quisiera resumir en pocas frases la esencia del modelo que estamos planteando, serían estos 3 concep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e último es clave respecto de los requerimientos de fondos públicos. El Modelo que estamos plantenado es uno de securitización de los créditos otorgados a los jóvenes para recoger recursos del Mercado de Capitales. En régimen, este sistema debiera autosustentarse y no presionar al gasto fiscal como el sistema del Fondo Solidario. Se requiere un tiempo de maduración que es difícil de predecir, pues dependerá del mercado, pero por lo menos, unos 6 a 8 años, de capitalización por una parte y de consolidación en el mercado financiero, hasta convertirse en una real opción de inversiones a tasas razonables y con porcentajes de sobrecolateralización mínimos.Esquema parecido al de los recursos para préstamos hipotecar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A57-2551-4E28-8AC9-3D098803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68E-8453-4880-8E6E-1FBA0870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CEF-DA40-4EB7-A869-C7BB80DF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AF2-8B6F-47B7-9343-35A58133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A308-8720-4308-A102-1A2F145E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AC7E-2FD7-4D1B-B57E-84486F16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7370-E74F-47F6-8B6B-5DC3F203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183A-1728-42AF-B91E-3D9401F9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1AC1-F6F9-4B56-8B6C-72BBE33C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2F1C-8BFE-477D-A1A3-3D5A1B8C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1FEF-AFB7-489A-9C11-938D3798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982-2085-481C-85E0-F9052BEA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526A-1A2D-4D8E-8CC3-F7410850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72E9-0A3D-4064-AD00-F914CB2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37F7-284A-4F9F-B7E2-3FC35DE5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94D9-A23E-4E5F-8F23-6A0503CE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C75A-3567-4E1B-8E73-D16815FD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9F0-DC4F-41FE-BE94-21D2D301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305-941D-4CCD-9C22-9CE704CC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31A-A3BC-4264-BF08-E374FF79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682-21FD-414C-BF6E-FED582AA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0A4-DAC6-4181-B28E-AC3624E3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E8B-C5C0-4CA4-BAB6-93A551CA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0D9-937E-4F19-B884-CE651CED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4DB4-4A13-4A05-9D11-BDFA74E4050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7212-43BF-42E1-AF5B-3D5AEB9E6DA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905120"/>
            <a:ext cx="7792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Reprogramación de Crédito Solid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solidaridad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3886200" cy="3062160"/>
          </a:xfrm>
          <a:prstGeom prst="rect">
            <a:avLst/>
          </a:prstGeom>
          <a:ln w="0">
            <a:noFill/>
          </a:ln>
        </p:spPr>
      </p:pic>
      <p:pic>
        <p:nvPicPr>
          <p:cNvPr id="100" name="logo72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447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95440" y="304560"/>
            <a:ext cx="7648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Fundamentos del Proyecto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recuperación en la actualidad alcanza a la cifra de 25.000 millones de pes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asa  promedio de recuperación del sistema bordea el 5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l sistema de crédito se basa en el principio de la solidaridad intergenerac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1.000 millones de pesos equivalen aproximadamente a 1.000 crédi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ley vigente establece sanciones que impiden a los profesionales en mora una regularización de su créd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Objetivos del Proyec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Aumentar recuperación de créditos moro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Mantener el principio de la contingencia al ingreso: en ningún caso se paga más del 5% de la remune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Establecer mecanismos más eficientes para el proceso de cobro de las deu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0948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Contenido del Proyecto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Programa  de reprogramación aplicable a deudores morosos al 31 de diciembre de 20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No considera condonación de intere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Establece un nuevo plazo de 10 años para el pag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Se establece una cuota fija, sujeta a la contingencia del 5% de los ingresos de cada deudo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joven1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949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gu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Incorpora mecanismos más eficientes para el cobro de las deu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Retención de la devolución de impuestos por la Tesorería General de la República para los profesionales que trabajan en forma independ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Descuento automático de las remuneraciones del deudor para los profesionales dependi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joven1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2949840" cy="1828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46280" y="226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0080" y="2209680"/>
            <a:ext cx="851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Financiamiento de Estudios Superi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n instituciones autónom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y acreditad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logo72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447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9280" y="456840"/>
            <a:ext cx="779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Verdana"/>
              </a:rPr>
              <a:t>Acceso al Crédito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81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poyo a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jóvenes y sus padre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o terceros para seguir estudios de educación sup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Beneficia directamente a la clase media y sectores más modestos de la población que teniendo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méritos académic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no cuentan con recursos para estudi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s un esfuerzo entre el Estado y las instituciones de educación superior de los tres niveles: Universidades, Institutos Profesionales y Centros de Formación Técn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nanciamiento mixto: Estado financia la formación de un fondo de créditos que años después, se invierten en el mercado de capitales para realimentar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9280" y="-36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Verdana"/>
              </a:rPr>
              <a:t>Características de los créditos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creará una institucionalidad mixta que permita entregar créditos a estudiantes o sus pad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garantías esta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garantías de las casas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garantías de los propios beneficiarios (compromisos de pag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n a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réditos de largo plazo que se empiezan a pagar un año después del egr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tarán con seguro cesantía, invalidez y desgravam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Topes de crédito por año via Arancel de Referencia y límites al número de años que pueden endeuda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9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Verdana"/>
              </a:rPr>
              <a:t>Los Planes de Ahorro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Objetivo: apoyar 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estudiante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 y famili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que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ahorren para financiar el primer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añ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, premiándolos con igual tasa de interés o más, con un tope de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810 mil pesos (50 UF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Exige: Ahorro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durante un mínimo de dos año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al menos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un milló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300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mil pesos (80 UF) para estudios universitarios o profesional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y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650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mil pesos (40 UF) para estudios técnicos de nivel superio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Premio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150% de la tasa de interés real para familia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co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ingresos inferiores a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u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millón de pesos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63 UF) y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00% de la tasa de interés real para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familias co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ingresos entr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u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millón y un milló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500 mil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pesos (entre 63 y 93 UF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Ejemplo: si la tasa de interés fue en promedio 5%, el primer tramo obtendrá por esos fondos ahorrados un 12.5% de interés y el segundo tramo un 10% de interé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9:25:02Z</dcterms:created>
  <dc:creator>MINEDUC </dc:creator>
  <dc:description/>
  <dc:language>en-US</dc:language>
  <cp:lastModifiedBy>CEI</cp:lastModifiedBy>
  <dcterms:modified xsi:type="dcterms:W3CDTF">2002-05-31T01:09:06Z</dcterms:modified>
  <cp:revision>27</cp:revision>
  <dc:subject/>
  <dc:title>Reforma de la Educación Superior</dc:title>
</cp:coreProperties>
</file>